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A21-042A-451D-8FAA-08A99BF0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563-7F3A-4128-818E-BAAFC230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40C-0A1E-4783-B2F5-3F9A6B1E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433-292F-4019-9A31-0EA98216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505-C500-4F75-BE29-45EFF5C4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6CA-9C61-4046-9081-776510D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920-1AD6-433C-A766-422AD9D0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CA2-EBFE-4B3D-A499-716A7703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D05-1C23-47C6-91FA-06410101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744-75BC-4DAA-A652-6D4CB581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2BC-6AF6-425F-BDEB-3B85DB6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7E0-AA1A-4A07-A08C-27ABABA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ABF-F76C-440D-B3D6-89945BB6156A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28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67360" y="42228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لا تخاف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ن توافو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67360" y="376236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لحِم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ط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152280"/>
            <a:ext cx="4140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قد تل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ea typeface="Times New Roman (Arabic)"/>
              </a:rPr>
              <a:t> وتع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922560"/>
            <a:ext cx="414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ما لنورها غر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61128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وهي قالت حين ن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92256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فلتطوبني الشع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041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476280"/>
            <a:ext cx="3429000" cy="448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قد دعاها واصطف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35772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ce0000"/>
                </a:solidFill>
                <a:latin typeface="Times New Roman"/>
                <a:cs typeface="Times New Roman (Arabic)"/>
              </a:rPr>
              <a:t>ربُّ كل العال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3520" y="1341360"/>
            <a:ext cx="444816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2193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76320"/>
            <a:ext cx="9144000" cy="6675480"/>
            <a:chOff x="0" y="76320"/>
            <a:chExt cx="9144000" cy="66754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137160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85800" y="304812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152280" y="4824360"/>
              <a:ext cx="21337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76320" y="7632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772400" y="68580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6858000" y="1828800"/>
              <a:ext cx="13716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7543800" y="297180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0"/>
            <a:stretch/>
          </p:blipFill>
          <p:spPr>
            <a:xfrm>
              <a:off x="6934320" y="4778280"/>
              <a:ext cx="2133360" cy="192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934320" y="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67360" y="115920"/>
            <a:ext cx="486864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ووقاها مذ بر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6360" y="836640"/>
            <a:ext cx="511308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ل محذور يش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67360" y="422280"/>
            <a:ext cx="486864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هي رجاك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في شقا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7360" y="335772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فاسمع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يا مذن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09:32:24Z</dcterms:modified>
  <cp:revision>95</cp:revision>
  <dc:subject/>
  <dc:title>PowerPoint Presentation</dc:title>
</cp:coreProperties>
</file>